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43B6-69EF-47F1-B932-12685551A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2196-F05F-4793-813B-74AEE08FC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8BB0-CEFA-4697-BF45-8AFBDC265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B75D-6B3D-4927-AF42-73E98F4F0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94D39-E6B4-4D76-AFF8-B74EEDFF1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F6EDE-5344-4DA6-9FE9-0FB300B0A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E4FEC-3424-47CF-A98E-79A6360D6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3945A-1728-4D75-AE4F-B586C7AEF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49967-B15E-4087-8176-EF8D3BDF3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1EAE8-C52E-43D2-910A-9BD80E78E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2DF84-C01F-4330-BC83-D25671C79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D4CA-71EB-4387-95F2-9268FF25F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B242E-DCC6-425A-9E41-BAA2E8E1A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5517D-A387-4510-B6A5-F292ADC04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DB085-1CCB-4077-98CB-551BD504C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5EB4F-6466-40E8-93C7-74459B901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D3280-699D-4757-B0DF-99374B8E5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26C2-1727-4F2A-9576-37C0DA974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527D-7E6B-44F6-B439-56754CEA2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199F-F2FD-46DF-B30E-363BA6ABC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43D8-8E44-4A00-9CC7-ECD34B765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B21D-4E7C-44AF-9E97-961FEB874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C7EA-9FBD-48AB-83E6-39DBC1080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4C56-413D-4A55-9888-652AA688A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20E68-EC97-4508-9169-32509B0DE2E2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9C0A7-F469-4960-8649-06672997EF89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장 학습장애아 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념과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10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1.7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통 이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환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low achievemen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7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반복 학습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slow learner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e5ffff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의 이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좌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선형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계적과 체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논리적과 계획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청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실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우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종합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무선적과 비형식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직관적과 우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상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두뇌의 미세 기능 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차이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인지적 결함의 오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인 원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처리의 한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인 영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특수아동 출현율 중 가장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학습장애의 분류 및 특성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의 유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정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쓰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말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듣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셈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0%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 읽기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동적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진단 평가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특수교육진흥법에서는 학습장애를 진단 평가하는 도구로는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2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초학습기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3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학습준비도 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4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지각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5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각운동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6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각운동통합발달검사 등을 제시하였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진정한 평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수행평가와 교육과정중심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Authentic Assessment: ‘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실제’의 생활에서 읽고 쓰는 능력을 가장 밀접하게 사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속적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수학습에 정보를 제공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과정에 통합되어져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달에 있어서 적절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자아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평가를 인식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활동적인 협동학습이 가능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참고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Fuuntas &amp; Pinnell, 2001, p.484)  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습의 필수조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주의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중재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동기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효과적인 교수활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읽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쓰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난독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질문하세요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484360" y="1916280"/>
            <a:ext cx="417528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03:52:24Z</dcterms:created>
  <dc:creator>.</dc:creator>
  <dc:description/>
  <dc:language>en-US</dc:language>
  <cp:lastModifiedBy>f</cp:lastModifiedBy>
  <dcterms:modified xsi:type="dcterms:W3CDTF">2007-04-05T02:46:59Z</dcterms:modified>
  <cp:revision>8</cp:revision>
  <dc:subject/>
  <dc:title>제 5장 과학교육과정</dc:title>
</cp:coreProperties>
</file>