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6BC4-8327-4C9D-80E9-B6664561A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4DC4-3517-49B1-85F3-2233F0723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9328-D276-49B4-8663-7295F3B73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AA54-FF90-4C1D-BED0-4923F4786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DF13-0C8E-4A9E-A35E-DF98ACAB9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5FE8-45AB-434C-BF68-6E449629D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2C5C-8B49-4CE9-909F-909995887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B74A-E575-4362-AB87-1011CB4CA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AB52-4BF8-4C8E-AC3D-43A800183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3E96-D6E9-4D73-8104-700EC7780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6FA6-4777-45F5-8195-0B6243BFE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4793-FA1B-4BF1-93C0-5E51093DD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10924-5A55-4DAD-91B6-5445EB744EE5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대구한의대부속 대구한방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표자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최창항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Welcome to Paradis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356000" y="1599840"/>
            <a:ext cx="4788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물리치료사 선생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6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출근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8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업무시작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9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~ 5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점심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12:30 ~ 2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실습일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기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라인을 잘 타야 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차로 가는 게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인사 가는 게 좋음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9280" y="2606760"/>
            <a:ext cx="4038840" cy="25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수고하셨습니다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7:45:20Z</dcterms:created>
  <dc:creator>경상대 컴퓨터실 프린터</dc:creator>
  <dc:description/>
  <dc:language>en-US</dc:language>
  <cp:lastModifiedBy>경상대 컴퓨터실 프린터</cp:lastModifiedBy>
  <dcterms:modified xsi:type="dcterms:W3CDTF">2009-04-09T07:47:38Z</dcterms:modified>
  <cp:revision>2</cp:revision>
  <dc:subject/>
  <dc:title>대구한의대부속 대구한방병원</dc:title>
</cp:coreProperties>
</file>