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A313-9357-498A-BCA2-C14455F4C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A578-2FF0-48D6-AEBA-FC5796C47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2806-6446-4232-8A6E-2732B6B14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DA65-7E0F-4964-8DAE-74332AFD3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807C7-C743-4EAC-97A1-EFA75EC32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36F25-69FC-4422-8584-83EBAF6F8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F2E83-23E9-46BD-82B8-562B858CC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E5054-0AD5-4F56-900E-2985462CD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CA640-7EA4-49CB-9E90-E82FC2212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EBE06-7457-4B7E-B762-017CC6B9A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0A632-A290-4549-9264-BE70BCE08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0451-C8E0-416D-99C3-3DC149772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02830-B2DF-4969-A4EE-11B955444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4AA4D-830D-469B-9A68-66AD39830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16850-E386-4CEC-89C6-BC94EC599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0D9EE-9422-407F-ABAE-FD1DFCE5C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D9EA3-DDA7-4413-A488-7D830FE83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9CDF-87B1-480F-9536-04709ABE8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7874-AE53-4705-BA71-396A9FDBB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CAC0-6C59-4C2C-AF9F-D9794D6DB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FDB0-2AF3-48FD-A4BA-9FE0CE24A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F83F-9C63-450B-A115-DCBEECC95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1432-3B21-45DD-A103-CA41E1E6B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3595-8ED0-443A-A083-D4580E9AA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25D21-9CF4-4F0F-9BE9-90E13D2BA0D3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ABCC8-D6C4-485B-9B64-29128447A876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장 학습장애아 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념과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10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1.7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통 이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환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low achievemen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7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반복 학습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slow learner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e5ffff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의 이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좌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선형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계적과 체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논리적과 계획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청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실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우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종합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무선적과 비형식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직관적과 우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상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두뇌의 미세 기능 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차이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인지적 결함의 오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인 원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처리의 한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인 영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특수아동 출현율 중 가장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학습장애의 분류 및 특성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의 유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정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쓰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말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듣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셈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0%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 읽기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동적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진단 평가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특수교육진흥법에서는 학습장애를 진단 평가하는 도구로는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2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초학습기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3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학습준비도 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4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지각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5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각운동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6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각운동통합발달검사 등을 제시하였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진정한 평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수행평가와 교육과정중심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Authentic Assessment: ‘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실제’의 생활에서 읽고 쓰는 능력을 가장 밀접하게 사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속적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수학습에 정보를 제공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과정에 통합되어져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달에 있어서 적절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자아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평가를 인식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활동적인 협동학습이 가능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참고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Fuuntas &amp; Pinnell, 2001, p.484)  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습의 필수조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주의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중재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동기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효과적인 교수활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읽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쓰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난독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질문하세요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484360" y="1916280"/>
            <a:ext cx="417528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03:52:24Z</dcterms:created>
  <dc:creator>.</dc:creator>
  <dc:description/>
  <dc:language>en-US</dc:language>
  <cp:lastModifiedBy>f</cp:lastModifiedBy>
  <dcterms:modified xsi:type="dcterms:W3CDTF">2007-04-05T02:46:59Z</dcterms:modified>
  <cp:revision>8</cp:revision>
  <dc:subject/>
  <dc:title>제 5장 과학교육과정</dc:title>
</cp:coreProperties>
</file>